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BF4C-B445-4B07-B559-AFF3F61E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17E4-0AC4-4460-8950-B7A5E57D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7D0B-152D-4085-9602-D3FDA804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8567-5D6D-439E-B4C6-CBCBEE96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B58E-2A54-4704-B5F0-FA7AEB9B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0FB2-6DFE-427E-9969-C39BB655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D3EA-2D16-45C8-936C-0A2C8B2C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B096-22DC-481A-9848-A9C1C1F4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4606-66BC-4411-835F-46B1032D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C9D2-5C09-4E83-9847-8A0F97EB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BFE8-4351-455D-B9DF-67341873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2D53-C2D8-49F5-9990-637E3FF7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AADC-55A0-48C3-8779-10172272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2E1F-D163-4B05-9CFF-4F581673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B77C-8C41-4689-AAAF-070535C9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B74B-BB4C-4B49-B373-E8EE0A3C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61EE-1454-4A93-9737-B3C430375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B986-B651-4558-AEF8-3169F62E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9555-0768-4076-8CA2-0ACBEB2E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27E8-4B2C-4CEA-AFF9-70698CA3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D251-04AA-4EE7-A2E3-E8B50FF5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BE74-DB38-48E3-AA44-51A9AB4C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AC60-F759-4ACD-B3D1-2B1D4699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018B-FC39-43A5-BA2A-AC450EE0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3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dca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11"/>
          <p:cNvSpPr/>
          <p:nvPr/>
        </p:nvSpPr>
        <p:spPr>
          <a:xfrm>
            <a:off x="-49320" y="5784840"/>
            <a:ext cx="3797280" cy="8380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直角三角形 13"/>
          <p:cNvSpPr/>
          <p:nvPr/>
        </p:nvSpPr>
        <p:spPr>
          <a:xfrm>
            <a:off x="-3240" y="5791320"/>
            <a:ext cx="3400560" cy="1081080"/>
          </a:xfrm>
          <a:prstGeom prst="rtTriangle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6480" y="5788080"/>
            <a:ext cx="3403800" cy="1084320"/>
            <a:chOff x="-6480" y="5788080"/>
            <a:chExt cx="3403800" cy="1084320"/>
          </a:xfrm>
        </p:grpSpPr>
        <p:sp>
          <p:nvSpPr>
            <p:cNvPr id="4" name="直接连接符 14"/>
            <p:cNvSpPr/>
            <p:nvPr/>
          </p:nvSpPr>
          <p:spPr>
            <a:xfrm>
              <a:off x="-6480" y="5788080"/>
              <a:ext cx="3403800" cy="1084320"/>
            </a:xfrm>
            <a:prstGeom prst="line">
              <a:avLst/>
            </a:prstGeom>
            <a:ln w="12240">
              <a:solidFill>
                <a:srgbClr val="2da2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>
              <a:off x="-6480" y="5788080"/>
              <a:ext cx="3403800" cy="10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46A0-355A-47C1-90A9-EAC287F7179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3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任意多边形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dca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11"/>
          <p:cNvSpPr/>
          <p:nvPr/>
        </p:nvSpPr>
        <p:spPr>
          <a:xfrm>
            <a:off x="-49320" y="5784840"/>
            <a:ext cx="3797280" cy="8380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角三角形 13"/>
          <p:cNvSpPr/>
          <p:nvPr/>
        </p:nvSpPr>
        <p:spPr>
          <a:xfrm>
            <a:off x="-3240" y="5791320"/>
            <a:ext cx="3400560" cy="1081080"/>
          </a:xfrm>
          <a:prstGeom prst="rtTriangle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-6480" y="5788080"/>
            <a:ext cx="3403800" cy="1084320"/>
            <a:chOff x="-6480" y="5788080"/>
            <a:chExt cx="3403800" cy="1084320"/>
          </a:xfrm>
        </p:grpSpPr>
        <p:sp>
          <p:nvSpPr>
            <p:cNvPr id="51" name="直接连接符 14"/>
            <p:cNvSpPr/>
            <p:nvPr/>
          </p:nvSpPr>
          <p:spPr>
            <a:xfrm>
              <a:off x="-6480" y="5788080"/>
              <a:ext cx="3403800" cy="1084320"/>
            </a:xfrm>
            <a:prstGeom prst="line">
              <a:avLst/>
            </a:prstGeom>
            <a:ln w="12240">
              <a:solidFill>
                <a:srgbClr val="2da2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-6480" y="5788080"/>
              <a:ext cx="3403800" cy="10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7041-3F12-48C2-8CB5-1699B6D2364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直角三角形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593"/>
              </a:gs>
              <a:gs pos="50000">
                <a:srgbClr val="48bae0"/>
              </a:gs>
              <a:gs pos="100000">
                <a:srgbClr val="007593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组合 4098"/>
          <p:cNvGrpSpPr/>
          <p:nvPr/>
        </p:nvGrpSpPr>
        <p:grpSpPr>
          <a:xfrm>
            <a:off x="0" y="4941720"/>
            <a:ext cx="9144000" cy="1911600"/>
            <a:chOff x="0" y="4941720"/>
            <a:chExt cx="9144000" cy="1911600"/>
          </a:xfrm>
        </p:grpSpPr>
        <p:sp>
          <p:nvSpPr>
            <p:cNvPr id="96" name="任意多边形 6"/>
            <p:cNvSpPr/>
            <p:nvPr/>
          </p:nvSpPr>
          <p:spPr>
            <a:xfrm>
              <a:off x="1690560" y="4941720"/>
              <a:ext cx="745344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dca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任意多边形 7"/>
            <p:cNvSpPr/>
            <p:nvPr/>
          </p:nvSpPr>
          <p:spPr>
            <a:xfrm>
              <a:off x="38880" y="5226120"/>
              <a:ext cx="910512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10"/>
            <p:cNvSpPr/>
            <p:nvPr/>
          </p:nvSpPr>
          <p:spPr>
            <a:xfrm>
              <a:off x="3600" y="4989600"/>
              <a:ext cx="914040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>
                <a:alphaModFix amt="5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0" y="4986360"/>
              <a:ext cx="9144000" cy="790200"/>
              <a:chOff x="0" y="4986360"/>
              <a:chExt cx="9144000" cy="790200"/>
            </a:xfrm>
          </p:grpSpPr>
          <p:sp>
            <p:nvSpPr>
              <p:cNvPr id="100" name="直接连接符 11"/>
              <p:cNvSpPr/>
              <p:nvPr/>
            </p:nvSpPr>
            <p:spPr>
              <a:xfrm>
                <a:off x="0" y="4986360"/>
                <a:ext cx="9144000" cy="790200"/>
              </a:xfrm>
              <a:prstGeom prst="line">
                <a:avLst/>
              </a:prstGeom>
              <a:ln w="12240">
                <a:solidFill>
                  <a:srgbClr val="2da2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 txBox="1"/>
              <p:nvPr/>
            </p:nvSpPr>
            <p:spPr>
              <a:xfrm>
                <a:off x="0" y="4986360"/>
                <a:ext cx="9144000" cy="79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763560"/>
            <a:ext cx="777240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600"/>
            </a:br>
            <a:r>
              <a:rPr b="1" lang="zh-CN" sz="41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格式复制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3" name="文本框 1"/>
          <p:cNvSpPr/>
          <p:nvPr/>
        </p:nvSpPr>
        <p:spPr>
          <a:xfrm>
            <a:off x="1619280" y="3573360"/>
            <a:ext cx="600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Lucida Sans Unicode"/>
                <a:ea typeface="宋体"/>
              </a:rPr>
              <a:t>计算机基础教学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Lucida Sans Unicode"/>
                <a:ea typeface="宋体"/>
              </a:rPr>
              <a:t>屈立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宋体"/>
              </a:rPr>
              <a:t>2015.11.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教学内容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105" name="组合 7"/>
          <p:cNvGrpSpPr/>
          <p:nvPr/>
        </p:nvGrpSpPr>
        <p:grpSpPr>
          <a:xfrm>
            <a:off x="1731960" y="2592360"/>
            <a:ext cx="5506920" cy="949320"/>
            <a:chOff x="1731960" y="2592360"/>
            <a:chExt cx="5506920" cy="949320"/>
          </a:xfrm>
        </p:grpSpPr>
        <p:grpSp>
          <p:nvGrpSpPr>
            <p:cNvPr id="106" name="组合 5137"/>
            <p:cNvGrpSpPr/>
            <p:nvPr/>
          </p:nvGrpSpPr>
          <p:grpSpPr>
            <a:xfrm>
              <a:off x="1927440" y="2597400"/>
              <a:ext cx="5311440" cy="688680"/>
              <a:chOff x="1927440" y="2597400"/>
              <a:chExt cx="5311440" cy="688680"/>
            </a:xfrm>
          </p:grpSpPr>
          <p:sp>
            <p:nvSpPr>
              <p:cNvPr id="107" name="AutoShape 19"/>
              <p:cNvSpPr/>
              <p:nvPr/>
            </p:nvSpPr>
            <p:spPr>
              <a:xfrm>
                <a:off x="1927440" y="2597400"/>
                <a:ext cx="5311440" cy="688680"/>
              </a:xfrm>
              <a:prstGeom prst="roundRect">
                <a:avLst>
                  <a:gd name="adj" fmla="val 17505"/>
                </a:avLst>
              </a:prstGeom>
              <a:gradFill rotWithShape="0">
                <a:gsLst>
                  <a:gs pos="0">
                    <a:srgbClr val="2da2bf"/>
                  </a:gs>
                  <a:gs pos="50000">
                    <a:srgbClr val="2995af"/>
                  </a:gs>
                  <a:gs pos="100000">
                    <a:srgbClr val="2da2b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组合 5139"/>
              <p:cNvGrpSpPr/>
              <p:nvPr/>
            </p:nvGrpSpPr>
            <p:grpSpPr>
              <a:xfrm>
                <a:off x="1940400" y="2618640"/>
                <a:ext cx="5291640" cy="636840"/>
                <a:chOff x="1940400" y="2618640"/>
                <a:chExt cx="5291640" cy="636840"/>
              </a:xfrm>
            </p:grpSpPr>
            <p:sp>
              <p:nvSpPr>
                <p:cNvPr id="109" name="AutoShape 21"/>
                <p:cNvSpPr/>
                <p:nvPr/>
              </p:nvSpPr>
              <p:spPr>
                <a:xfrm>
                  <a:off x="1940400" y="3090600"/>
                  <a:ext cx="5291640" cy="164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2da2b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AutoShape 22"/>
                <p:cNvSpPr/>
                <p:nvPr/>
              </p:nvSpPr>
              <p:spPr>
                <a:xfrm>
                  <a:off x="1940400" y="2618640"/>
                  <a:ext cx="5291640" cy="164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da2b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" name="Text Box 23"/>
            <p:cNvSpPr/>
            <p:nvPr/>
          </p:nvSpPr>
          <p:spPr>
            <a:xfrm>
              <a:off x="2394000" y="2711880"/>
              <a:ext cx="449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格式复制的概念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30" descr="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1731960" y="2592360"/>
              <a:ext cx="791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32"/>
            <p:cNvSpPr/>
            <p:nvPr/>
          </p:nvSpPr>
          <p:spPr>
            <a:xfrm>
              <a:off x="2052360" y="2689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8"/>
          <p:cNvGrpSpPr/>
          <p:nvPr/>
        </p:nvGrpSpPr>
        <p:grpSpPr>
          <a:xfrm>
            <a:off x="1743120" y="3449520"/>
            <a:ext cx="5495400" cy="949320"/>
            <a:chOff x="1743120" y="3449520"/>
            <a:chExt cx="5495400" cy="949320"/>
          </a:xfrm>
        </p:grpSpPr>
        <p:grpSp>
          <p:nvGrpSpPr>
            <p:cNvPr id="115" name="组合 5122"/>
            <p:cNvGrpSpPr/>
            <p:nvPr/>
          </p:nvGrpSpPr>
          <p:grpSpPr>
            <a:xfrm>
              <a:off x="1927080" y="3460680"/>
              <a:ext cx="5311440" cy="689040"/>
              <a:chOff x="1927080" y="3460680"/>
              <a:chExt cx="5311440" cy="689040"/>
            </a:xfrm>
          </p:grpSpPr>
          <p:sp>
            <p:nvSpPr>
              <p:cNvPr id="116" name="AutoShape 4"/>
              <p:cNvSpPr/>
              <p:nvPr/>
            </p:nvSpPr>
            <p:spPr>
              <a:xfrm>
                <a:off x="1927080" y="3460680"/>
                <a:ext cx="5311440" cy="689040"/>
              </a:xfrm>
              <a:prstGeom prst="roundRect">
                <a:avLst>
                  <a:gd name="adj" fmla="val 17505"/>
                </a:avLst>
              </a:prstGeom>
              <a:gradFill rotWithShape="0">
                <a:gsLst>
                  <a:gs pos="0">
                    <a:srgbClr val="da1f28"/>
                  </a:gs>
                  <a:gs pos="50000">
                    <a:srgbClr val="c91c24"/>
                  </a:gs>
                  <a:gs pos="100000">
                    <a:srgbClr val="da1f2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组合 5124"/>
              <p:cNvGrpSpPr/>
              <p:nvPr/>
            </p:nvGrpSpPr>
            <p:grpSpPr>
              <a:xfrm>
                <a:off x="1940040" y="3481920"/>
                <a:ext cx="5291640" cy="636840"/>
                <a:chOff x="1940040" y="3481920"/>
                <a:chExt cx="5291640" cy="636840"/>
              </a:xfrm>
            </p:grpSpPr>
            <p:sp>
              <p:nvSpPr>
                <p:cNvPr id="118" name="AutoShape 6"/>
                <p:cNvSpPr/>
                <p:nvPr/>
              </p:nvSpPr>
              <p:spPr>
                <a:xfrm>
                  <a:off x="1940040" y="3953880"/>
                  <a:ext cx="5291640" cy="164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a1f28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AutoShape 7"/>
                <p:cNvSpPr/>
                <p:nvPr/>
              </p:nvSpPr>
              <p:spPr>
                <a:xfrm>
                  <a:off x="1940040" y="3481920"/>
                  <a:ext cx="5291640" cy="164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a1f2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" name="Text Box 24"/>
            <p:cNvSpPr/>
            <p:nvPr/>
          </p:nvSpPr>
          <p:spPr>
            <a:xfrm>
              <a:off x="2405160" y="356868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格式刷的操作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29" descr="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1743120" y="3449520"/>
              <a:ext cx="791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33"/>
            <p:cNvSpPr/>
            <p:nvPr/>
          </p:nvSpPr>
          <p:spPr>
            <a:xfrm>
              <a:off x="2064960" y="3547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9"/>
          <p:cNvGrpSpPr/>
          <p:nvPr/>
        </p:nvGrpSpPr>
        <p:grpSpPr>
          <a:xfrm>
            <a:off x="1743120" y="4300560"/>
            <a:ext cx="5495400" cy="949320"/>
            <a:chOff x="1743120" y="4300560"/>
            <a:chExt cx="5495400" cy="949320"/>
          </a:xfrm>
        </p:grpSpPr>
        <p:grpSp>
          <p:nvGrpSpPr>
            <p:cNvPr id="124" name="组合 5127"/>
            <p:cNvGrpSpPr/>
            <p:nvPr/>
          </p:nvGrpSpPr>
          <p:grpSpPr>
            <a:xfrm>
              <a:off x="1927080" y="4325760"/>
              <a:ext cx="5311440" cy="689040"/>
              <a:chOff x="1927080" y="4325760"/>
              <a:chExt cx="5311440" cy="689040"/>
            </a:xfrm>
          </p:grpSpPr>
          <p:sp>
            <p:nvSpPr>
              <p:cNvPr id="125" name="AutoShape 9"/>
              <p:cNvSpPr/>
              <p:nvPr/>
            </p:nvSpPr>
            <p:spPr>
              <a:xfrm>
                <a:off x="1927080" y="4325760"/>
                <a:ext cx="5311440" cy="689040"/>
              </a:xfrm>
              <a:prstGeom prst="roundRect">
                <a:avLst>
                  <a:gd name="adj" fmla="val 17505"/>
                </a:avLst>
              </a:prstGeom>
              <a:gradFill rotWithShape="0">
                <a:gsLst>
                  <a:gs pos="0">
                    <a:srgbClr val="ff8119"/>
                  </a:gs>
                  <a:gs pos="50000">
                    <a:srgbClr val="e97717"/>
                  </a:gs>
                  <a:gs pos="100000">
                    <a:srgbClr val="ff81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组合 5129"/>
              <p:cNvGrpSpPr/>
              <p:nvPr/>
            </p:nvGrpSpPr>
            <p:grpSpPr>
              <a:xfrm>
                <a:off x="1940040" y="4347000"/>
                <a:ext cx="5291640" cy="636840"/>
                <a:chOff x="1940040" y="4347000"/>
                <a:chExt cx="5291640" cy="636840"/>
              </a:xfrm>
            </p:grpSpPr>
            <p:sp>
              <p:nvSpPr>
                <p:cNvPr id="127" name="AutoShape 11"/>
                <p:cNvSpPr/>
                <p:nvPr/>
              </p:nvSpPr>
              <p:spPr>
                <a:xfrm>
                  <a:off x="1940040" y="4818960"/>
                  <a:ext cx="5291640" cy="164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811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AutoShape 12"/>
                <p:cNvSpPr/>
                <p:nvPr/>
              </p:nvSpPr>
              <p:spPr>
                <a:xfrm>
                  <a:off x="1940040" y="4347000"/>
                  <a:ext cx="5291640" cy="164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811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" name="Text Box 25"/>
            <p:cNvSpPr/>
            <p:nvPr/>
          </p:nvSpPr>
          <p:spPr>
            <a:xfrm>
              <a:off x="2405160" y="442800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格式刷的适用范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28" descr=""/>
            <p:cNvPicPr/>
            <p:nvPr/>
          </p:nvPicPr>
          <p:blipFill>
            <a:blip r:embed="rId3"/>
            <a:srcRect l="42620" t="64489" r="19467" b="0"/>
            <a:stretch/>
          </p:blipFill>
          <p:spPr>
            <a:xfrm>
              <a:off x="1743120" y="4300560"/>
              <a:ext cx="791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34"/>
            <p:cNvSpPr/>
            <p:nvPr/>
          </p:nvSpPr>
          <p:spPr>
            <a:xfrm>
              <a:off x="2064960" y="4435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AutoShape 35"/>
          <p:cNvSpPr/>
          <p:nvPr/>
        </p:nvSpPr>
        <p:spPr>
          <a:xfrm>
            <a:off x="1219320" y="167652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300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格式复制的概念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440" y="181728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为什么要进行格式复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spcBef>
                <a:spcPts val="4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相同的格式设置浪费大量的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spcBef>
                <a:spcPts val="4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300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格式复制的概念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440" y="181728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什么是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格式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刷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90000"/>
              </a:lnSpc>
              <a:spcBef>
                <a:spcPts val="363"/>
              </a:spcBef>
              <a:tabLst>
                <a:tab algn="l" pos="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对一组格式进行复制粘贴的工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90000"/>
              </a:lnSpc>
              <a:spcBef>
                <a:spcPts val="363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90000"/>
              </a:lnSpc>
              <a:spcBef>
                <a:spcPts val="363"/>
              </a:spcBef>
              <a:tabLst>
                <a:tab algn="l" pos="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快速将指定段落或文本的格式复制到其他段落或文本上，让我们免受重复设置之苦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90000"/>
              </a:lnSpc>
              <a:spcBef>
                <a:spcPts val="363"/>
              </a:spcBef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656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格式刷的操作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8" name="Oval 3"/>
          <p:cNvSpPr/>
          <p:nvPr/>
        </p:nvSpPr>
        <p:spPr>
          <a:xfrm>
            <a:off x="2552760" y="1969920"/>
            <a:ext cx="3554280" cy="355284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4"/>
          <p:cNvSpPr/>
          <p:nvPr/>
        </p:nvSpPr>
        <p:spPr>
          <a:xfrm>
            <a:off x="3022560" y="2425680"/>
            <a:ext cx="2610000" cy="2606760"/>
          </a:xfrm>
          <a:prstGeom prst="ellipse">
            <a:avLst/>
          </a:prstGeom>
          <a:gradFill rotWithShape="0">
            <a:gsLst>
              <a:gs pos="0">
                <a:srgbClr val="a0a0a0"/>
              </a:gs>
              <a:gs pos="50000">
                <a:srgbClr val="ffffff"/>
              </a:gs>
              <a:gs pos="100000">
                <a:srgbClr val="a0a0a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3187800" y="3367080"/>
            <a:ext cx="23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格式刷的操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924440" y="1400040"/>
            <a:ext cx="29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本、段落、图片、表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295200" y="4944960"/>
            <a:ext cx="24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格式刷，复制一次，自动还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6226200" y="4871880"/>
            <a:ext cx="245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双击格式刷，复制多次，再次单击后还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组合 16392"/>
          <p:cNvGrpSpPr/>
          <p:nvPr/>
        </p:nvGrpSpPr>
        <p:grpSpPr>
          <a:xfrm>
            <a:off x="3608280" y="1519200"/>
            <a:ext cx="1392120" cy="1374480"/>
            <a:chOff x="3608280" y="1519200"/>
            <a:chExt cx="1392120" cy="1374480"/>
          </a:xfrm>
        </p:grpSpPr>
        <p:sp>
          <p:nvSpPr>
            <p:cNvPr id="145" name="Oval 10"/>
            <p:cNvSpPr/>
            <p:nvPr/>
          </p:nvSpPr>
          <p:spPr>
            <a:xfrm>
              <a:off x="3645000" y="1578240"/>
              <a:ext cx="1327320" cy="1315440"/>
            </a:xfrm>
            <a:prstGeom prst="ellipse">
              <a:avLst/>
            </a:prstGeom>
            <a:gradFill rotWithShape="0">
              <a:gsLst>
                <a:gs pos="0">
                  <a:srgbClr val="2da2bf"/>
                </a:gs>
                <a:gs pos="100000">
                  <a:srgbClr val="0e323b"/>
                </a:gs>
              </a:gsLst>
              <a:lin ang="5400000"/>
            </a:gradFill>
            <a:ln w="38160">
              <a:solidFill>
                <a:srgbClr val="f8f8f8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Picture 11" descr=""/>
            <p:cNvPicPr/>
            <p:nvPr/>
          </p:nvPicPr>
          <p:blipFill>
            <a:blip r:embed="rId1"/>
            <a:stretch/>
          </p:blipFill>
          <p:spPr>
            <a:xfrm>
              <a:off x="3608280" y="1519200"/>
              <a:ext cx="1392120" cy="119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Rectangle 12"/>
          <p:cNvSpPr/>
          <p:nvPr/>
        </p:nvSpPr>
        <p:spPr>
          <a:xfrm>
            <a:off x="3635280" y="1930320"/>
            <a:ext cx="137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格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16396"/>
          <p:cNvGrpSpPr/>
          <p:nvPr/>
        </p:nvGrpSpPr>
        <p:grpSpPr>
          <a:xfrm>
            <a:off x="2373480" y="3811680"/>
            <a:ext cx="1393200" cy="1374480"/>
            <a:chOff x="2373480" y="3811680"/>
            <a:chExt cx="1393200" cy="1374480"/>
          </a:xfrm>
        </p:grpSpPr>
        <p:sp>
          <p:nvSpPr>
            <p:cNvPr id="149" name="Oval 14"/>
            <p:cNvSpPr/>
            <p:nvPr/>
          </p:nvSpPr>
          <p:spPr>
            <a:xfrm>
              <a:off x="2410200" y="3870720"/>
              <a:ext cx="1328400" cy="1315440"/>
            </a:xfrm>
            <a:prstGeom prst="ellipse">
              <a:avLst/>
            </a:prstGeom>
            <a:gradFill rotWithShape="0">
              <a:gsLst>
                <a:gs pos="0">
                  <a:srgbClr val="da1f28"/>
                </a:gs>
                <a:gs pos="100000">
                  <a:srgbClr val="43090c"/>
                </a:gs>
              </a:gsLst>
              <a:lin ang="5400000"/>
            </a:gradFill>
            <a:ln w="38160">
              <a:solidFill>
                <a:srgbClr val="f8f8f8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15" descr=""/>
            <p:cNvPicPr/>
            <p:nvPr/>
          </p:nvPicPr>
          <p:blipFill>
            <a:blip r:embed="rId2"/>
            <a:stretch/>
          </p:blipFill>
          <p:spPr>
            <a:xfrm>
              <a:off x="2373480" y="3811680"/>
              <a:ext cx="1393200" cy="119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Rectangle 16"/>
          <p:cNvSpPr/>
          <p:nvPr/>
        </p:nvSpPr>
        <p:spPr>
          <a:xfrm>
            <a:off x="2389320" y="4208400"/>
            <a:ext cx="137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单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复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16400"/>
          <p:cNvGrpSpPr/>
          <p:nvPr/>
        </p:nvGrpSpPr>
        <p:grpSpPr>
          <a:xfrm>
            <a:off x="4851360" y="3859200"/>
            <a:ext cx="1393560" cy="1374480"/>
            <a:chOff x="4851360" y="3859200"/>
            <a:chExt cx="1393560" cy="1374480"/>
          </a:xfrm>
        </p:grpSpPr>
        <p:sp>
          <p:nvSpPr>
            <p:cNvPr id="153" name="Oval 18"/>
            <p:cNvSpPr/>
            <p:nvPr/>
          </p:nvSpPr>
          <p:spPr>
            <a:xfrm>
              <a:off x="4888080" y="3918240"/>
              <a:ext cx="1328760" cy="1315440"/>
            </a:xfrm>
            <a:prstGeom prst="ellipse">
              <a:avLst/>
            </a:prstGeom>
            <a:gradFill rotWithShape="0">
              <a:gsLst>
                <a:gs pos="0">
                  <a:srgbClr val="ff8119"/>
                </a:gs>
                <a:gs pos="100000">
                  <a:srgbClr val="4e2708"/>
                </a:gs>
              </a:gsLst>
              <a:lin ang="5400000"/>
            </a:gradFill>
            <a:ln w="38160">
              <a:solidFill>
                <a:srgbClr val="f8f8f8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19" descr=""/>
            <p:cNvPicPr/>
            <p:nvPr/>
          </p:nvPicPr>
          <p:blipFill>
            <a:blip r:embed="rId3"/>
            <a:stretch/>
          </p:blipFill>
          <p:spPr>
            <a:xfrm>
              <a:off x="4851360" y="3859200"/>
              <a:ext cx="1393560" cy="119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Rectangle 20"/>
          <p:cNvSpPr/>
          <p:nvPr/>
        </p:nvSpPr>
        <p:spPr>
          <a:xfrm>
            <a:off x="4924440" y="4294080"/>
            <a:ext cx="123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多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复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格式刷的适用范围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7" name="AutoShape 19"/>
          <p:cNvSpPr/>
          <p:nvPr/>
        </p:nvSpPr>
        <p:spPr>
          <a:xfrm>
            <a:off x="2233440" y="2387520"/>
            <a:ext cx="5548320" cy="124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def5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0"/>
          <p:cNvSpPr/>
          <p:nvPr/>
        </p:nvSpPr>
        <p:spPr>
          <a:xfrm>
            <a:off x="2752560" y="2816280"/>
            <a:ext cx="47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少量的复制需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1" descr=""/>
          <p:cNvPicPr/>
          <p:nvPr/>
        </p:nvPicPr>
        <p:blipFill>
          <a:blip r:embed="rId1"/>
          <a:stretch/>
        </p:blipFill>
        <p:spPr>
          <a:xfrm>
            <a:off x="760320" y="207324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22"/>
          <p:cNvSpPr/>
          <p:nvPr/>
        </p:nvSpPr>
        <p:spPr>
          <a:xfrm>
            <a:off x="1068480" y="2722680"/>
            <a:ext cx="12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复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次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9"/>
          <p:cNvSpPr/>
          <p:nvPr/>
        </p:nvSpPr>
        <p:spPr>
          <a:xfrm>
            <a:off x="2287440" y="4452840"/>
            <a:ext cx="5548320" cy="124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def5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0"/>
          <p:cNvSpPr/>
          <p:nvPr/>
        </p:nvSpPr>
        <p:spPr>
          <a:xfrm>
            <a:off x="2806560" y="4808520"/>
            <a:ext cx="47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范围的复制需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1" descr=""/>
          <p:cNvPicPr/>
          <p:nvPr/>
        </p:nvPicPr>
        <p:blipFill>
          <a:blip r:embed="rId2"/>
          <a:stretch/>
        </p:blipFill>
        <p:spPr>
          <a:xfrm>
            <a:off x="814320" y="413856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2"/>
          <p:cNvSpPr/>
          <p:nvPr/>
        </p:nvSpPr>
        <p:spPr>
          <a:xfrm>
            <a:off x="1122480" y="4788000"/>
            <a:ext cx="12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复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范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1283"/>
          <p:cNvGrpSpPr/>
          <p:nvPr/>
        </p:nvGrpSpPr>
        <p:grpSpPr>
          <a:xfrm>
            <a:off x="7239240" y="3181320"/>
            <a:ext cx="1805760" cy="1747800"/>
            <a:chOff x="7239240" y="3181320"/>
            <a:chExt cx="1805760" cy="1747800"/>
          </a:xfrm>
        </p:grpSpPr>
        <p:sp>
          <p:nvSpPr>
            <p:cNvPr id="166" name="AutoShape 21"/>
            <p:cNvSpPr/>
            <p:nvPr/>
          </p:nvSpPr>
          <p:spPr>
            <a:xfrm rot="6774000">
              <a:off x="7500240" y="3416400"/>
              <a:ext cx="1270080" cy="1335240"/>
            </a:xfrm>
            <a:custGeom>
              <a:avLst/>
              <a:gdLst/>
              <a:ahLst/>
              <a:rect l="l" t="t" r="r" b="b"/>
              <a:pathLst>
                <a:path w="23223" h="10943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8119"/>
                </a:gs>
              </a:gsLst>
              <a:lin ang="121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22"/>
            <p:cNvSpPr/>
            <p:nvPr/>
          </p:nvSpPr>
          <p:spPr>
            <a:xfrm rot="12174000">
              <a:off x="7428960" y="3449520"/>
              <a:ext cx="1354680" cy="1252080"/>
            </a:xfrm>
            <a:custGeom>
              <a:avLst/>
              <a:gdLst/>
              <a:ahLst/>
              <a:rect l="l" t="t" r="r" b="b"/>
              <a:pathLst>
                <a:path w="23223" h="10943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2da2bf"/>
                </a:gs>
              </a:gsLst>
              <a:lin ang="67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23"/>
            <p:cNvSpPr/>
            <p:nvPr/>
          </p:nvSpPr>
          <p:spPr>
            <a:xfrm rot="17574600">
              <a:off x="7520400" y="3358440"/>
              <a:ext cx="1270080" cy="1335240"/>
            </a:xfrm>
            <a:custGeom>
              <a:avLst/>
              <a:gdLst/>
              <a:ahLst/>
              <a:rect l="l" t="t" r="r" b="b"/>
              <a:pathLst>
                <a:path w="23223" h="10943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40b0e"/>
                </a:gs>
                <a:gs pos="100000">
                  <a:srgbClr val="44b9e8"/>
                </a:gs>
              </a:gsLst>
              <a:lin ang="13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24"/>
            <p:cNvSpPr/>
            <p:nvPr/>
          </p:nvSpPr>
          <p:spPr>
            <a:xfrm rot="1374000">
              <a:off x="7500240" y="3426840"/>
              <a:ext cx="1354680" cy="1251720"/>
            </a:xfrm>
            <a:custGeom>
              <a:avLst/>
              <a:gdLst/>
              <a:ahLst/>
              <a:rect l="l" t="t" r="r" b="b"/>
              <a:pathLst>
                <a:path w="23223" h="10943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da1f28"/>
                </a:gs>
              </a:gsLst>
              <a:lin ang="175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文本框 35842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da1f28"/>
                </a:solidFill>
                <a:latin typeface="Arial"/>
                <a:ea typeface="微软雅黑"/>
              </a:rPr>
              <a:t>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324000" y="44370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c0c0"/>
                </a:solidFill>
                <a:latin typeface="Arial Unicode MS"/>
                <a:ea typeface="Arial Unicode MS"/>
              </a:rPr>
              <a:t>WP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  <a:ea typeface="宋体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08:27:00Z</dcterms:created>
  <dc:creator>tangtang</dc:creator>
  <dc:description/>
  <dc:language>en-US</dc:language>
  <cp:lastModifiedBy>Super Cheng</cp:lastModifiedBy>
  <dcterms:modified xsi:type="dcterms:W3CDTF">2015-11-11T05:16:44Z</dcterms:modified>
  <cp:revision>4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